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112-6889-446A-BA31-E35FFA0F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3B7-15EB-4845-81A6-B129394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1C1-66E2-44CF-A435-EFFA5E15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12E-FB47-443C-9ABA-DE72EB4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8D0-01A9-4262-83F3-FE14EA5A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3500-9CC5-44E9-8581-BE7C90C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18EB-801C-4359-9480-9574EC8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B7D-544E-4A3F-8F62-324B336A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69BF-C878-4020-BC34-5E97D7B7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AD9-38F3-4C40-B82D-F573CD18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9BB0-3F23-4252-AF4A-F43FCDE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46A-CA39-4A8F-A5AA-907BEFF3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F15-7E8F-451C-AC78-CD869BA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4D8-673A-485C-AF99-28AD465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B921-A66C-4E51-BEE1-0D664B2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666-BDBD-46F5-B1F5-08D9D664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DED9-2FCE-402E-AE6C-6090DFE8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95F-D544-46F8-AF83-FAFCFC6A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971-2267-4272-A556-7C2D109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3BB-AA6F-4AC6-AC51-ECD7319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B1D-62C1-4747-9304-B94BA63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11A-89F9-4B57-8FB2-BB981191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278-9D2F-444F-B0FB-9B7D280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15F-6EA6-412C-888A-D07DC13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613-A405-449F-8DC3-EB6533D0E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9D70-3C1F-4970-9E94-6A79ADEE1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8.2  </a:t>
            </a: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Secondary </a:t>
            </a:r>
            <a:br>
              <a:rPr sz="8800"/>
            </a:b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Industries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Industries that set up in Canada consider several factors in deciding where to locate their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cess 5 major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skilled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12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supporting industries (parts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12193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fi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1143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export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1295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well developed transport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the processing of primary industry products into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secondary industry is manufacturing, which is responsible for making the enormous range of products needed by consumers and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s 21.6% of the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ing employs 2 million employ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mployees in construction alone than in all of the primary industries combined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jor kind of secondary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industries also contribute to Canadian economy by producing goods for 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are things that are sold to people on other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exports today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6932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.  Petroleu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1981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Passenger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295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Car Parts and Access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4 Aluminu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1696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5 L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05:01:37Z</dcterms:created>
  <dc:creator>Amanda</dc:creator>
  <dc:description/>
  <dc:language>en-US</dc:language>
  <cp:lastModifiedBy>Amanda</cp:lastModifiedBy>
  <dcterms:modified xsi:type="dcterms:W3CDTF">2011-01-05T05:47:15Z</dcterms:modified>
  <cp:revision>2</cp:revision>
  <dc:subject/>
  <dc:title>8.2    Secondary  Industries</dc:title>
</cp:coreProperties>
</file>